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3B5-F10B-4D71-B8BE-50BA161E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8CF-9941-4210-9349-B23C68C0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F46-41C7-4257-BA4E-B87CAE27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A9D-A7AC-4156-B9EB-080D0F1C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F76B-B59B-4691-B85B-BF7B5F76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B6D-1A02-4432-A457-5375E26A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3CCC-0983-4F0F-91C8-61244B58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D7E-DB26-43D8-9AFE-41F208BD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AA08-403D-4730-884B-7DB7A726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FF5-ACF5-4082-91C1-8A9D3C0B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DA76-6FBA-491A-B999-BCFB616E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904-17E2-4BB6-B81D-F04EE830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3B82-C8C9-4016-B2EE-89F6CC0341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Modelo dirigido por denuncia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5622" t="18000" r="28129" b="0"/>
          <a:stretch/>
        </p:blipFill>
        <p:spPr>
          <a:xfrm>
            <a:off x="2286000" y="1523880"/>
            <a:ext cx="4464000" cy="4091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5120" y="5867280"/>
            <a:ext cx="550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La Denuncia es una Tac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293"/>
                </a:solidFill>
                <a:latin typeface="Arial"/>
              </a:rPr>
              <a:t>??FIN??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Que la marca pague</a:t>
            </a:r>
            <a:br>
              <a:rPr sz="4000"/>
            </a:br>
            <a:r>
              <a:rPr b="1" lang="en-US" sz="4000" spc="-1" strike="noStrike">
                <a:solidFill>
                  <a:srgbClr val="dfd293"/>
                </a:solidFill>
                <a:latin typeface="Arial"/>
              </a:rPr>
              <a:t>Que al manufacturero pagu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Negociaciones triangul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esignar buenas fabr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estructuracion de la indust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419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293"/>
                </a:solidFill>
                <a:latin typeface="Arial"/>
              </a:rPr>
              <a:t>Que apoyemos a nuevos sindicatos y sindicatos que ya exist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Cada prenda que se vende en las universidades este hecha por mano de obra sindicaliza</a:t>
            </a:r>
            <a:br>
              <a:rPr sz="4000"/>
            </a:b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dfd293"/>
                </a:solidFill>
                <a:latin typeface="Arial"/>
              </a:rPr>
              <a:t>Código de Conducta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3a2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d3a219"/>
                </a:solidFill>
                <a:latin typeface="Arial"/>
              </a:rPr>
              <a:t>Si a la Libertad de Asociación y Negociación Colec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3a2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d3a219"/>
                </a:solidFill>
                <a:latin typeface="Arial"/>
              </a:rPr>
              <a:t>No al Trabajo Forz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3a2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d3a219"/>
                </a:solidFill>
                <a:latin typeface="Arial"/>
              </a:rPr>
              <a:t>No Discri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3a2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d3a219"/>
                </a:solidFill>
                <a:latin typeface="Arial"/>
              </a:rPr>
              <a:t>No al Trabajo Infant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9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6639e5"/>
                </a:solidFill>
                <a:latin typeface="Arial"/>
              </a:rPr>
              <a:t>Salarios Beneficios y Ho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9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6639e5"/>
                </a:solidFill>
                <a:latin typeface="Arial"/>
              </a:rPr>
              <a:t>Salud y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9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6639e5"/>
                </a:solidFill>
                <a:latin typeface="Arial"/>
              </a:rPr>
              <a:t>Hostigamiento o Abu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9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6639e5"/>
                </a:solidFill>
                <a:latin typeface="Arial"/>
              </a:rPr>
              <a:t>Derechos de la Muj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nvestigacion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5638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apacitacion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495680" cy="3372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Blanco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Fabr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.ej. Hoya S.A. Guatemala – Gear for S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Parques Industr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.ej. San Bartolo (Formosa, Perry, Satellit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Mar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.ej. Gildan: Honduras, Republica Dominicana, Nicaragua, Hai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Manufactureros tras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.ej. Rhoo H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cuerdos Mar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.ej. Gildan, Grupo M (ambas producen para universidad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94160" y="31680"/>
            <a:ext cx="575712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ncesionarios en la reg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Jans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VF (lee, wrangl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Russ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Our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Lands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Red O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eam E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ntigua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ear for S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hamp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Jones &amp; Mitch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obby Ed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Nike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Heismann by Reebo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llege K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V 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5200" y="1496160"/>
            <a:ext cx="83736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ffff99"/>
                </a:solidFill>
                <a:latin typeface="Arial"/>
              </a:rPr>
              <a:t>Marcas y/o Manufacturas en la región q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ffff99"/>
                </a:solidFill>
                <a:latin typeface="Arial"/>
              </a:rPr>
              <a:t>venden su producto (camisetas) 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ffff99"/>
                </a:solidFill>
                <a:latin typeface="Arial"/>
              </a:rPr>
              <a:t>concesiona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gil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ara lee (ha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fruit of the l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del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-shi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28040" y="763560"/>
            <a:ext cx="65052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Marcas F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n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reeb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liz Claibor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polo ralf Lau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eddie bau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nau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d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Proyecto Ombudsman WRC/F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183840" y="2347560"/>
            <a:ext cx="27777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Otras mar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levi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ga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Estrategias Nueva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o a cier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bajo investigacion, mejoras lograd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teger a buenas fabr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pedidos, compromis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o traslados a paises donde no existe libertdad sindic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China, Birmani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Apoyar a trabajadores e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ueva Transpar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(Volumen: verificacion y blanc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17:09:50Z</dcterms:created>
  <dc:creator>Lorraine Clewer </dc:creator>
  <dc:description/>
  <dc:language>en-US</dc:language>
  <cp:lastModifiedBy>Lorraine Clewer </cp:lastModifiedBy>
  <dcterms:modified xsi:type="dcterms:W3CDTF">2005-02-19T19:45:30Z</dcterms:modified>
  <cp:revision>27</cp:revision>
  <dc:subject/>
  <dc:title>Slide 1</dc:title>
</cp:coreProperties>
</file>