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088-BF31-43E0-A7F8-F5282106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266-92E3-4B95-84D5-7110C833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085-902E-4987-97AB-8B2D77DD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AF5-BE1E-43FD-9122-3468532E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30A9E-EB4D-4BD5-8F55-FCC55D0A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E7CF6-A734-433E-B518-71CA5387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A88A7-E221-4BBE-99D4-EE90F954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403C8-D779-49A9-9A60-23EE2454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5B975-B018-42CF-914C-847E9B59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A848C-76F6-4640-856A-D958CB0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92379-A1DC-4AE9-8E82-43FE4E3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A076-F77E-49E1-88D5-65D47E7A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94C8B-6DB3-430D-92B0-7BBC442C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951E0-222D-483D-8EFD-FDF5CF19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2BCB2-18CF-4EDE-BCDB-A885B4E7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17F78-1709-43E0-BA40-81F29C9C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40F49-CBB1-4D16-9C8F-1B1747F6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86A-BAE5-446E-8F0E-EF3C8B26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46C-7DCB-49A9-BE43-C04595F5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4A8-4D97-4061-BA6F-A216C477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884-D9DA-42BA-91EB-46B29FF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FC4-9EDC-477D-B7FF-4760F607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226-ECBC-4E5A-9B77-84D39F1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603-E4F5-48A3-A602-1CA84E5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207F-846C-48AF-A129-7233A642242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8EE1-9161-4E3B-89A0-C44D9B40500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doni MT Black"/>
              </a:rPr>
              <a:t>ESTRATEG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doni MT Black"/>
              </a:rPr>
              <a:t>ORGANIZATI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doni MT Black"/>
              </a:rPr>
              <a:t>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doni MT Black"/>
              </a:rPr>
              <a:t>MESA LABORAL DE SINDICATOS DE LA MAQUI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doni MT Black"/>
              </a:rPr>
              <a:t>EN NICARA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doni MT Black"/>
              </a:rPr>
              <a:t>ENCUENTRO  REGIONAL MAQUILA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doni MT Black"/>
              </a:rPr>
              <a:t>Guatemala  18 y 19 febrero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2320" y="447840"/>
            <a:ext cx="7839360" cy="59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558720"/>
            <a:ext cx="849600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601560"/>
            <a:ext cx="8353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5400" y="52560"/>
            <a:ext cx="895320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347760"/>
            <a:ext cx="864216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355680"/>
            <a:ext cx="792144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291960"/>
            <a:ext cx="864216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0920" y="303120"/>
            <a:ext cx="864216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lan estratégico anua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febrero 2004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pañas de sensibilización:a los/as trabajador@s. y sociedad civ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cuñas radiales en varias estaciones rad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conferencias de prensa: con cobertura de medios de comunicación, radiales, televisivos y escri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foros nacionales; Con representación de la sociedad civil, Mitrab, Minsa, Medio Ambiente y Corporación de Zona Fran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aboración de boletines, afiches, calcomanías, volantes, calendarios, mantas y camise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043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lantones de protestas;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frente a las empresas y parqu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ustriales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280" y="2133720"/>
            <a:ext cx="800244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vos: dando a conocer el trabajo sindic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pacio de denuncias departe de los/as trabajador@s en contra de las violaciones de sus derechos laborales sindicales y humanos. En su centro de trabaj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pacio para nuevas afilia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urales: Socio dramas, bailes y ca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440" y="-360"/>
            <a:ext cx="90345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tribución de trabajo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83012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rganización de sindicatos por empresa y territorio. Poniendo puntos de refer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isitas a trabajadores en sus domicil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ta: Organizar 3 sindicatos por cada una de las federaciones y un nuevo sindicato en el caso de Presitex. Total 1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bajo clandestino previo a organiz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ordinaciones con organizaciones af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 movimiento sindical; alcaldías, estudiantes, religiosos, partidos polit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PACITACION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vias a organizar: temas; derecho de asociación, sindicalismo, funciones de los sindica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; temas de Derecho laboral, Higiene y seguridad, Administración sindical, Proceso de negociación colectiva, técnicas de negociación, genero, Formación de facilitadores sindicales, estudios de salario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vances en el año dos mil cuat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organizaron 6 nuevos sindicatos en las empresas de zonas franc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N YONG,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 YO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PRICH,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E A TECNOTEX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 COLORES,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ICOTEX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FICULTAD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ECUSION SINDICAL; despidos de lideres sindicales y afili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ERRE Y TRASLADOS DE EMPRESAS; perdidas de afili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CIALIZACION DEL MITRAB A FAVOR DE LOS EMPLEADORES; retardación de justicia, negatividad de inscripción de nuevos sindicatos, desarticulación de comisiones mixtas, no negociación de convenios colec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87280" y="4752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</a:t>
            </a:r>
            <a:r>
              <a:rPr b="1" lang="es-MX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sumen: Organización y número de Sindicato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s Organizaciones Miembros de la ML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42920" y="1557360"/>
          <a:ext cx="7201080" cy="4226040"/>
        </p:xfrm>
        <a:graphic>
          <a:graphicData uri="http://schemas.openxmlformats.org/drawingml/2006/table">
            <a:tbl>
              <a:tblPr/>
              <a:tblGrid>
                <a:gridCol w="2111400"/>
                <a:gridCol w="581040"/>
                <a:gridCol w="581040"/>
                <a:gridCol w="579600"/>
                <a:gridCol w="581040"/>
                <a:gridCol w="507960"/>
                <a:gridCol w="565200"/>
                <a:gridCol w="563400"/>
                <a:gridCol w="565200"/>
                <a:gridCol w="56520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# Sindicat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bril 20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Julio 20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Marzo 2,0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nero 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ner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,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FTV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FZFTV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FESTM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835280" y="6021000"/>
            <a:ext cx="59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92408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uente: Entrevistas a dirigentes de las Feder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916360" y="54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fili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0000" y="1413000"/>
          <a:ext cx="7488360" cy="4608360"/>
        </p:xfrm>
        <a:graphic>
          <a:graphicData uri="http://schemas.openxmlformats.org/drawingml/2006/table">
            <a:tbl>
              <a:tblPr/>
              <a:tblGrid>
                <a:gridCol w="1976400"/>
                <a:gridCol w="765360"/>
                <a:gridCol w="612720"/>
                <a:gridCol w="611280"/>
                <a:gridCol w="612720"/>
                <a:gridCol w="766800"/>
                <a:gridCol w="1071360"/>
                <a:gridCol w="1071720"/>
              </a:tblGrid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# Afiliad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,9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Julio 20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Marz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nero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Enero 2,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FTV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3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FZFTV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,8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,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,8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,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3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6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FESTM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64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7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7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,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02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2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,47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,1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02:36:57Z</dcterms:created>
  <dc:creator>cyber-1</dc:creator>
  <dc:description/>
  <dc:language>en-US</dc:language>
  <cp:lastModifiedBy>Lorraine Clewer </cp:lastModifiedBy>
  <dcterms:modified xsi:type="dcterms:W3CDTF">2005-02-19T22:18:59Z</dcterms:modified>
  <cp:revision>9</cp:revision>
  <dc:subject/>
  <dc:title>Diapositiva 1</dc:title>
</cp:coreProperties>
</file>