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106-BDD2-4192-ABC2-F24B8BF7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930-242A-4C76-9012-758ADFB9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E7B-D1AB-48B9-BBFE-E958E2DA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684-501F-4161-BC75-92518192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5E28-3DB7-4190-A556-EBA8C104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444E-5FD1-49A8-9B56-9CC24B9E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6897-6172-4464-ACFC-BACAC455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18B-B0DD-44E1-AE75-992DA79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036B-3C64-485A-A270-808074FC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9575-68F5-4BB1-A6C4-27A17E15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E64C-0D61-47F0-94FA-1C03B7AD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1C8-7DA8-48E4-A052-8A48E3F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71D2-31AB-49DE-89A7-08681507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4586-EDD7-40B0-981E-ED5A29F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C536-4580-4E6B-87F0-7FAD2A5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8705-A426-4F7A-B04B-03059153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FF5F-EA3D-47E8-8BA6-CB3F3B62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41C-85A2-47B9-8055-CC50A81F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7FA-CBEE-4D5E-8D20-4A5015B9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5E2-B768-4E1A-8401-1204DF4C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DAA-9463-4A0C-B896-5B09F9CC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C93-915E-4E9A-91F3-798EA99E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7B4-DBAD-4114-B2AD-CC070E2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BE0-191F-4316-BCF7-BD34184A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FBEC-4DF2-4973-8410-02A5371F8C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316F-4EC9-4719-9637-406E0BE409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ahoma"/>
              </a:rPr>
              <a:t>SINDICATOS QUE DURANTE LAS DOS ULTIMAS DECADAS HAN DESAPARECI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INDICATOS QUE SE HAN ORGANIZADO DURANTES LAS DOS ULTIMAS DECADAS Y TODAVÍA TIENEN VIDA ORGA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Paraíso S.A. de C.V.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PARAI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Setisa..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SETI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Alamode  S.A.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L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Corazón Apparel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C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y Empleados de la  Municipalidad de Trujillo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EMUT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Municipalidad de Masica 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MU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King Star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THREE H.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THREE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New Olans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NEWOL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ahoma"/>
              </a:rPr>
              <a:t>Sindicato de Trabajadores de la Empresa Jadotes </a:t>
            </a: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TRAJADOT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Tahoma"/>
              </a:rPr>
              <a:t>Sindicatos de la empresa Surco, SITRASUR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INCIPALES ORGANIZACI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DEL PA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(CONFEDERACION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ENTRALES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onfederación Unitaria de Trabajadores de Honduras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(CUTH)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160,000 afil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onfederación de Trabajadores de Honduras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(CTH)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330,000 afil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entral General de Trabajadores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(CGT)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600,000 afili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ORGANIZACIONES SINDICALES POR ORGANIZACIÓN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UTH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iene 56 organizaciones sindicales afili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TH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tiene 52 organizaciones sindicales afili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GT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tiene 45 organizaciones sindicales afiliad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RINCIPALES PROBLEMAS QUE IMPIDEN LA ORGANIZACIÓN DE LOS TRABAJADORES (AS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se respeta la ley, hay una inoperancia y complicidad del estado en la violación a la ley, por parte del sector empresa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ramite gubernamental engorroso, para que el trabajador se pueda organiza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licación de un sistema económico deshumanizante, donde se considera a la organización de los trabajadores como el mayor obstáculo para el desarrollo del ca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existe sentido de pertenencia hacia la organización por la carencia de valores de los trabajadores que entran en el proceso de organización, son frágiles ante las pretensiones patron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 igual que las empresas que se consideran capital Golondrina, el trabajador anda de empresa en empresa y utiliza la organización únicamente para lograr su despido y el pago de sus prestaciones e indemnizaciones soci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281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l levantamiento de listas negras por los empresarios como represalia para los trabajadores (as) que han intentado organiz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acticas de Organización arcaicas sin una estrategia o programa de trabajo cla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rmas de organización desfasadas alejada de las nuevas realidades económicas mund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spectores del trabajo serviles de los intereses empresar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spectores del trabajo y profesionales del derecho que trafican con el espectro del sindica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rrupción el algunos dirigentes y activistas sindicales, que trafican con los intereses de los trabajado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No se permite el acceso de los Inspectores del Trabajo a los centros de traba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chos empresarios hacen noche sin mañana dejando a los empleados sin el pago de sus salarios y prestaciones indemnizaciones sociales. Esto sucede porque el estado no les exige garantía bancaria en cuando al pasivo laboral al momento de solicitar el permiso de ope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uchas empresas cierran con el fin de aniquilar el sindicato y reabren a los pocos días con otra razón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go anual de cesantía da los trabajadores (as) en franca violación a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642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   de    Trabajadores de la empresa Hyu wa  (SITRAYUWU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Jordae (SITRAJORDAE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Trans Pacific  (SIRANSPACIFI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Cortes (SITRAMACO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Ace Fashion (SITRAACEFASHION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Warners (SITRAW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Sale City (SITRAEACITY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la Empresa Maderas Hondureñas Procesadas (SITRAMAHPROS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la Empresa Contesa (SITRACONTES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la Empresa Inducasa (SITRAINDUCASA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Textileros de Honduras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TEX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Compañía Numar de Hond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CON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Marssol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MARSSO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Hermanos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H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Seolin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SEOLI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Manufactura textil de Honduras S.A. 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EMTEX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Caribean Apparel Munfufacturers  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EMCA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Worth Honduras S.A.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WORTH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Textiles de Honduras S. A. 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ITRATEXHON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imes New Roman"/>
              </a:rPr>
              <a:t>Sindicato de Trabajadores de la Empresa Envases Industriales S.A. </a:t>
            </a:r>
            <a:r>
              <a:rPr b="1" lang="es-ES" sz="2200" spc="-1" strike="noStrike">
                <a:solidFill>
                  <a:srgbClr val="003366"/>
                </a:solidFill>
                <a:latin typeface="Times New Roman"/>
              </a:rPr>
              <a:t>STEIH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Trabajadores de Tabacalera Hondureña 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TA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trabajadores  de Droguerias Farmacias y Similares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DFY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trabajadores  de la Industria del Plastico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IPLA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la División Municipal de Aguas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DI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Trabajadores de la Empresa de Calzado Paredes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PARED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s de casas comerciales y afines 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CCY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s del Instituto de Mercadeo Agrícola 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IH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Obrero del Mochito 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OE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Trabajadores de Refinería Texaco S.A.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RETEX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Tahom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3366"/>
                </a:solidFill>
                <a:latin typeface="Tahoma"/>
              </a:rPr>
              <a:t>Sindicato de Trabajadores de Agencia Warren  </a:t>
            </a:r>
            <a:r>
              <a:rPr b="1" lang="es-ES" sz="2200" spc="-1" strike="noStrike">
                <a:solidFill>
                  <a:srgbClr val="003366"/>
                </a:solidFill>
                <a:latin typeface="Tahoma"/>
              </a:rPr>
              <a:t>SITRAWARREN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Sierra Meléndez S.A.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SIMES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Cia Bananera Hondureña S.A.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COB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Fabrica de Manteca y Jabón Atlántida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F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Manufacturas de Cartón 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MACS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Minerales de Copan.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MINECOP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l Programa Rural Internacional.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PRODERI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Empleados Públicos y Rurales de la Municipalidad de Copan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EMPRESCOP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Tipografía Nacional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del Tabaco de Oriente 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EMTAO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3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Industria y Transformaciones de la madera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INTRAM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l Hotel Copan Sula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HOC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Zuñí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SUNNY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Sulatex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SULATEX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Shung sing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SHUNGSING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Yantex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YANTEX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Empresa Fashion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FASHIO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003366"/>
                </a:solidFill>
                <a:latin typeface="Tahoma"/>
              </a:rPr>
              <a:t>Sindicato de Trabajadores de la Industria del Plastico </a:t>
            </a:r>
            <a:r>
              <a:rPr b="1" lang="es-ES" sz="2100" spc="-1" strike="noStrike">
                <a:solidFill>
                  <a:srgbClr val="003366"/>
                </a:solidFill>
                <a:latin typeface="Tahoma"/>
              </a:rPr>
              <a:t>SITRAITIPLAS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Certified Services Of Honduras  (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SITRACASH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Fénix Apparel   (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SITRAFENIX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4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Wei´s Honduras Apparel Manufacturing Company S.A . (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SITRAWEI´S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EK de Honduras  (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SITRAEKA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Confecciones el Baron S.A. de C.V. (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SITRACOBA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Griffith Honduras S. De R. L.   (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SITRAGRIFFITH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Global Fashion S. A. de C.V.  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GLOFA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Cosmos Apparel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COSMOS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Industrias IMP de Honduras 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IMP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Orion Apparel S.A. de C.V.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ORION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Avvento Fashion 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AVENFA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Industrias Daly                                                                          S. De  R. L. 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DALY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24"/>
              </a:spcBef>
              <a:buClr>
                <a:srgbClr val="00ccff"/>
              </a:buClr>
              <a:buSzPct val="65000"/>
              <a:buFont typeface="Tahoma"/>
              <a:buAutoNum type="arabicPeriod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100" spc="-1" strike="noStrike">
                <a:solidFill>
                  <a:srgbClr val="003366"/>
                </a:solidFill>
                <a:latin typeface="Tahoma"/>
              </a:rPr>
              <a:t>Sindicato de Trabajadores de la Empresa Wonchang Honduras Industries S.A.  </a:t>
            </a:r>
            <a:r>
              <a:rPr b="1" lang="es-MX" sz="2100" spc="-1" strike="noStrike">
                <a:solidFill>
                  <a:srgbClr val="003366"/>
                </a:solidFill>
                <a:latin typeface="Tahoma"/>
              </a:rPr>
              <a:t>(SITRAWHISA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Hart Stret Fashion S.A.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EHASFA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Hyunjin Honduras Co. Ltda.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EHYUNJI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Yoo Sung S.A.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RAYOSU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M J Honduras 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RAMJ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p de trabajadores de la empresa ALUX, SITRAAL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Dikies de Honduras S.A. 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RADIKHO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Evergreen S.A. de C.V. (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SITRAEGRE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Americana Apparel Corporation Honduras S.A. de C.V.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EAMACH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Cat Industrial S.A. de C.V.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RACATIN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6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indicato de Trabajadores de la Empresa Delta Apparel S.A.  </a:t>
            </a: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(SITRADAS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indicato de Trabajadores de la Empresa Kimi de Honduras S.A. </a:t>
            </a:r>
            <a:r>
              <a:rPr b="1" lang="es-MX" sz="2400" spc="-1" strike="noStrike">
                <a:solidFill>
                  <a:srgbClr val="003366"/>
                </a:solidFill>
                <a:latin typeface="Tahoma"/>
              </a:rPr>
              <a:t>(SITRAKIM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indicato de Trabajadores de la Empresa New Hollan  Lingerie de Honduras S.A. </a:t>
            </a:r>
            <a:r>
              <a:rPr b="1" lang="es-MX" sz="2400" spc="-1" strike="noStrike">
                <a:solidFill>
                  <a:srgbClr val="003366"/>
                </a:solidFill>
                <a:latin typeface="Tahoma"/>
              </a:rPr>
              <a:t>(SITRANEWHOLI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indicato de Trabajadores de la Empresa Perry de Honduras S.A. </a:t>
            </a:r>
            <a:r>
              <a:rPr b="1" lang="es-MX" sz="2400" spc="-1" strike="noStrike">
                <a:solidFill>
                  <a:srgbClr val="003366"/>
                </a:solidFill>
                <a:latin typeface="Tahoma"/>
              </a:rPr>
              <a:t>SITEP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indicato de Trabajadores de la Empresa Confecciones Dos Caminos </a:t>
            </a:r>
            <a:r>
              <a:rPr b="1" lang="es-MX" sz="2400" spc="-1" strike="noStrike">
                <a:solidFill>
                  <a:srgbClr val="003366"/>
                </a:solidFill>
                <a:latin typeface="Tahoma"/>
              </a:rPr>
              <a:t>(SITRACONFED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indicato de Trabajadores de la Empresa Shinsung Modas </a:t>
            </a:r>
            <a:r>
              <a:rPr b="1" lang="es-MX" sz="2400" spc="-1" strike="noStrike">
                <a:solidFill>
                  <a:srgbClr val="003366"/>
                </a:solidFill>
                <a:latin typeface="Tahoma"/>
              </a:rPr>
              <a:t>(SITRASHIM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indicato de Trabajadores de la Empresa Dhe Greant Apparel Honduras S.A. </a:t>
            </a:r>
            <a:r>
              <a:rPr b="1" lang="es-MX" sz="2400" spc="-1" strike="noStrike">
                <a:solidFill>
                  <a:srgbClr val="003366"/>
                </a:solidFill>
                <a:latin typeface="Tahoma"/>
              </a:rPr>
              <a:t>(SITRAEGAFS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ahoma"/>
              </a:rPr>
              <a:t>Sindicatos de la empresa Corsa, SITRACOR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 startAt="7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ahoma"/>
              </a:rPr>
              <a:t>Sindicato de la empresa SULA, SITRASULA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01:33:21Z</dcterms:created>
  <dc:creator>Usuario</dc:creator>
  <dc:description/>
  <dc:language>en-US</dc:language>
  <cp:lastModifiedBy>Lorraine Clewer </cp:lastModifiedBy>
  <dcterms:modified xsi:type="dcterms:W3CDTF">2005-02-19T22:19:12Z</dcterms:modified>
  <cp:revision>7</cp:revision>
  <dc:subject/>
  <dc:title>SINDICATOS QUE DURANTE LAS DOS ULTIMAS DECADAS HAN SIDO DESAPARECI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