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494D6-BF8C-4260-9180-E3FAC8D23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8FAA1-ECFF-4A31-A56E-E4A72ABEC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73098-0FDE-448B-ADC4-3903793AA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143CB-375F-4832-AD04-B203EF00B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64365-0CBE-48D4-9206-EAE5F02CAF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6506C-FE63-4DBF-B256-F3810D375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5992B-C74F-4585-A28D-15FFAF190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054A-FCFC-4126-837E-4A890F2A8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1AB16-21B8-459D-A15D-8E03D4858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3CDC5-2C24-416E-9350-8B7D1A9C3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442F8-2D60-47F9-8623-96FBFB6C8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E709-71D1-4DC1-918F-BA0A41ECC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61A5-733F-4BF0-A451-C660B2D7C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208BC-6A8E-4A4E-97C3-58D698791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D9DD3-7AC0-4FAB-95DA-20A6F3C26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6ACA9-D705-4DAB-9AEC-7646D5B96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51A12-4DB3-4D88-937D-B006F9F18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09A7D-E1E7-4D53-8B8B-46BE2E9D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2CD7B-B622-4E37-A6BA-051EA6EC7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8C74E-3B7F-42AA-A3C7-C405088B4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A12CD-B71D-49B2-B4FA-FC4C9258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7257-5E06-4045-86CF-AF92C05D3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14F22-F559-4ED4-80D7-33B183DAB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D300-5C77-4876-98BB-A8F00EA01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8C39C-D485-4460-B36D-4D0E6ECB47A6}"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1C14-5C0B-4952-BA39-EAE385E5F030}" type="slidenum">
              <a:rPr b="0" lang="es-MX"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Experiencia de la Mesa Laboral de La Maquila de Nicaragua,  en cuanto a la coordinación entre organizaciones sindicales y los mecanismos de cooperación</a:t>
            </a:r>
            <a:r>
              <a:rPr b="1" lang="en-US" sz="4800" spc="-1" strike="noStrike">
                <a:solidFill>
                  <a:srgbClr val="feec94"/>
                </a:solidFill>
                <a:latin typeface="Times New Roman"/>
              </a:rPr>
              <a:t> </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5229000"/>
            <a:ext cx="6400800" cy="409320"/>
          </a:xfrm>
          <a:prstGeom prst="rect">
            <a:avLst/>
          </a:prstGeom>
          <a:noFill/>
          <a:ln w="0">
            <a:noFill/>
          </a:ln>
        </p:spPr>
        <p:txBody>
          <a:bodyPr lIns="90000" rIns="90000" tIns="46800" bIns="46800"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rPr>
              <a:t>Taller</a:t>
            </a:r>
            <a:r>
              <a:rPr b="1" lang="es-ES_tradnl" sz="1200" spc="-1" strike="noStrike">
                <a:solidFill>
                  <a:srgbClr val="ffffff"/>
                </a:solidFill>
                <a:latin typeface="Comic Sans MS"/>
              </a:rPr>
              <a:t> Regional sobre Estrategias de la Maquila y el Impacto del TLC-CAUSA.</a:t>
            </a:r>
            <a:r>
              <a:rPr b="0" lang="es-ES_tradnl" sz="1200" spc="-1" strike="noStrike">
                <a:solidFill>
                  <a:srgbClr val="ffffff"/>
                </a:solidFill>
                <a:latin typeface="Comic Sans MS"/>
              </a:rPr>
              <a:t> .</a:t>
            </a:r>
            <a:r>
              <a:rPr b="0" lang="es-ES" sz="1200" spc="-1" strike="noStrike">
                <a:solidFill>
                  <a:srgbClr val="ffffff"/>
                </a:solidFill>
                <a:latin typeface="Comic Sans MS"/>
              </a:rPr>
              <a:t> </a:t>
            </a:r>
            <a:endParaRPr b="0" lang="en-US" sz="1200" spc="-1" strike="noStrike">
              <a:solidFill>
                <a:srgbClr val="ffffff"/>
              </a:solidFill>
              <a:latin typeface="Times New Roman"/>
            </a:endParaRPr>
          </a:p>
        </p:txBody>
      </p:sp>
      <p:pic>
        <p:nvPicPr>
          <p:cNvPr id="122" name="" descr=""/>
          <p:cNvPicPr/>
          <p:nvPr/>
        </p:nvPicPr>
        <p:blipFill>
          <a:blip r:embed="rId1"/>
          <a:stretch/>
        </p:blipFill>
        <p:spPr>
          <a:xfrm>
            <a:off x="3276720" y="3645000"/>
            <a:ext cx="2539800" cy="166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eec94"/>
                </a:solidFill>
                <a:latin typeface="Times New Roman"/>
              </a:rPr>
              <a:t>I. </a:t>
            </a:r>
            <a:r>
              <a:rPr b="1" lang="es-ES" sz="3600" spc="-1" strike="noStrike">
                <a:solidFill>
                  <a:srgbClr val="feec94"/>
                </a:solidFill>
                <a:latin typeface="Times New Roman"/>
              </a:rPr>
              <a:t>	</a:t>
            </a:r>
            <a:r>
              <a:rPr b="1" lang="es-ES" sz="3600" spc="-1" strike="noStrike">
                <a:solidFill>
                  <a:srgbClr val="feec94"/>
                </a:solidFill>
                <a:latin typeface="Times New Roman"/>
              </a:rPr>
              <a:t>Antecedentes:</a:t>
            </a:r>
            <a:endParaRPr b="1" lang="en-US" sz="36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organización sindical de los trabajadores de la Zona Franca en Nicaragua tiene como raíz - en la gran mayoría de los casos - organizaciones sindicales surgidas en los años 70’s y 80’s organizados en ramas dentro de CST o ATC.   </a:t>
            </a:r>
            <a:endParaRPr b="0" lang="en-US" sz="2000" spc="-1" strike="noStrike">
              <a:solidFill>
                <a:srgbClr val="ffffff"/>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s divisiones dentro de la rama textil es una característica persistente, principalmente entre los años 1992 al 2,002 así como la inadecuada coordinación, de tal forma que dentro de las organizaciones afines ideológicamente de “izquierda” nos encontramos con la presencia dentro del sector de 4 organizaciones (Federaciones y Confederaciones) y un numero similar entre las organizaciones de derecha, dispersando las capacidades y fortalezas de la organización sindical del sector.</a:t>
            </a:r>
            <a:endParaRPr b="0" lang="en-US" sz="2000" spc="-1" strike="noStrike">
              <a:solidFill>
                <a:srgbClr val="ffffff"/>
              </a:solidFill>
              <a:latin typeface="Times New Roman"/>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3326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 esta etapa también surge una gran cantidad de organizaciones Internacionales de apoyo al trabajo de organización y defensa de los derechos de la maquila en Nicaragu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I. </a:t>
            </a:r>
            <a:r>
              <a:rPr b="1" lang="en-US" sz="3200" spc="-1" strike="noStrike">
                <a:solidFill>
                  <a:srgbClr val="feec94"/>
                </a:solidFill>
                <a:latin typeface="Times New Roman"/>
              </a:rPr>
              <a:t>	</a:t>
            </a:r>
            <a:r>
              <a:rPr b="1" lang="en-US" sz="3200" spc="-1" strike="noStrike">
                <a:solidFill>
                  <a:srgbClr val="feec94"/>
                </a:solidFill>
                <a:latin typeface="Times New Roman"/>
              </a:rPr>
              <a:t>Causas y efectos de la falta de unidad de </a:t>
            </a:r>
            <a:r>
              <a:rPr b="1" lang="en-US" sz="3200" spc="-1" strike="noStrike">
                <a:solidFill>
                  <a:srgbClr val="feec94"/>
                </a:solidFill>
                <a:latin typeface="Times New Roman"/>
              </a:rPr>
              <a:t>	</a:t>
            </a:r>
            <a:r>
              <a:rPr b="1" lang="en-US" sz="3200" spc="-1" strike="noStrike">
                <a:solidFill>
                  <a:srgbClr val="feec94"/>
                </a:solidFill>
                <a:latin typeface="Times New Roman"/>
              </a:rPr>
              <a:t>las organizaciones sindicales:</a:t>
            </a:r>
            <a:endParaRPr b="1" lang="en-US" sz="32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ausas:</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Sectarismo, divisionismo, caciquismo, protagonismo  y  falta de visión estratégica de largo plazo. </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 </a:t>
            </a:r>
            <a:r>
              <a:rPr b="1" lang="es-MX" sz="2000" spc="-1" strike="noStrike">
                <a:solidFill>
                  <a:srgbClr val="ffffff"/>
                </a:solidFill>
                <a:latin typeface="Tahoma"/>
              </a:rPr>
              <a:t>Efectos:</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Poca credibilidad entre los y las trabajadoras con las diferentes federaciones  en vista  de las  divisiones. </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En la base se percibía  las opiniones negativas de unos a otros dirigentes sindicales.</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Trabajadores dispuestos a organizarse, pero poca confianza a contar con respaldo al ser  despedidos. </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Mayor facilidad de los empresarios para implementar sus propias estrategias para destruir los sindicatos de izquierda oxigenando el desarrollo de la CTN(A). Durante  el gobierno de Arnoldo Alemán y la actual administración de Bolaños, se evidencia una clara alianza entre instituciones.</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ispersión de esfuerzos y poca efectividad en el trabajo.</a:t>
            </a:r>
            <a:endParaRPr b="0" lang="en-US" sz="2000" spc="-1" strike="noStrike">
              <a:solidFill>
                <a:srgbClr val="ffffff"/>
              </a:solidFill>
              <a:latin typeface="Times New Roman"/>
            </a:endParaRPr>
          </a:p>
          <a:p>
            <a:pPr marL="325800" indent="-32580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Decrecimiento sindi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II. </a:t>
            </a:r>
            <a:r>
              <a:rPr b="1" lang="en-US" sz="2400" spc="-1" strike="noStrike">
                <a:solidFill>
                  <a:srgbClr val="feec94"/>
                </a:solidFill>
                <a:latin typeface="Times New Roman"/>
              </a:rPr>
              <a:t>	</a:t>
            </a:r>
            <a:r>
              <a:rPr b="1" lang="en-US" sz="3200" spc="-1" strike="noStrike">
                <a:solidFill>
                  <a:srgbClr val="feec94"/>
                </a:solidFill>
                <a:latin typeface="Times New Roman"/>
              </a:rPr>
              <a:t>Dos hechos importantes en el proceso de </a:t>
            </a:r>
            <a:r>
              <a:rPr b="1" lang="en-US" sz="3200" spc="-1" strike="noStrike">
                <a:solidFill>
                  <a:srgbClr val="feec94"/>
                </a:solidFill>
                <a:latin typeface="Times New Roman"/>
              </a:rPr>
              <a:t>	</a:t>
            </a:r>
            <a:r>
              <a:rPr b="1" lang="en-US" sz="3200" spc="-1" strike="noStrike">
                <a:solidFill>
                  <a:srgbClr val="feec94"/>
                </a:solidFill>
                <a:latin typeface="Times New Roman"/>
              </a:rPr>
              <a:t>Conformación de la Mesa Laboral de </a:t>
            </a:r>
            <a:r>
              <a:rPr b="1" lang="en-US" sz="3200" spc="-1" strike="noStrike">
                <a:solidFill>
                  <a:srgbClr val="feec94"/>
                </a:solidFill>
                <a:latin typeface="Times New Roman"/>
              </a:rPr>
              <a:t>	</a:t>
            </a:r>
            <a:r>
              <a:rPr b="1" lang="en-US" sz="3200" spc="-1" strike="noStrike">
                <a:solidFill>
                  <a:srgbClr val="feec94"/>
                </a:solidFill>
                <a:latin typeface="Times New Roman"/>
              </a:rPr>
              <a:t>Sindicatos de la </a:t>
            </a:r>
            <a:r>
              <a:rPr b="1" lang="en-US" sz="3200" spc="-1" strike="noStrike">
                <a:solidFill>
                  <a:srgbClr val="feec94"/>
                </a:solidFill>
                <a:latin typeface="Times New Roman"/>
              </a:rPr>
              <a:t>	</a:t>
            </a:r>
            <a:r>
              <a:rPr b="1" lang="en-US" sz="3200" spc="-1" strike="noStrike">
                <a:solidFill>
                  <a:srgbClr val="feec94"/>
                </a:solidFill>
                <a:latin typeface="Times New Roman"/>
              </a:rPr>
              <a:t>Maquila.</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en-US" sz="2000" spc="-1" strike="noStrike">
                <a:solidFill>
                  <a:srgbClr val="ffffff"/>
                </a:solidFill>
                <a:latin typeface="Tahoma"/>
              </a:rPr>
              <a:t>Junio del 2,003 Acuerdo de unidad de las Organizaciones que componen la MLSM. </a:t>
            </a:r>
            <a:endParaRPr b="0" lang="en-US" sz="2000" spc="-1" strike="noStrike">
              <a:solidFill>
                <a:srgbClr val="ffffff"/>
              </a:solidFill>
              <a:latin typeface="Times New Roman"/>
            </a:endParaRPr>
          </a:p>
          <a:p>
            <a:pPr lvl="1" marL="980640" indent="-528120">
              <a:lnSpc>
                <a:spcPct val="90000"/>
              </a:lnSpc>
              <a:spcBef>
                <a:spcPts val="499"/>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stituir la Mesa Laboral de los Sindicatos de Trabajadores de la Maquila,(Zonas Francas) Instancia de Coordinación Intersindical Prepositiva,  que la  conforman  Federaciones  Y Sindicatos.</a:t>
            </a:r>
            <a:endParaRPr b="0" lang="en-US" sz="2000" spc="-1" strike="noStrike">
              <a:solidFill>
                <a:srgbClr val="ffffff"/>
              </a:solidFill>
              <a:latin typeface="Times New Roman"/>
            </a:endParaRPr>
          </a:p>
          <a:p>
            <a:pPr lvl="1" marL="980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80640" indent="-528120">
              <a:lnSpc>
                <a:spcPct val="90000"/>
              </a:lnSpc>
              <a:spcBef>
                <a:spcPts val="499"/>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s   una organización  amplia, democrática  y representativa.</a:t>
            </a:r>
            <a:endParaRPr b="0" lang="en-US" sz="2000" spc="-1" strike="noStrike">
              <a:solidFill>
                <a:srgbClr val="ffffff"/>
              </a:solidFill>
              <a:latin typeface="Times New Roman"/>
            </a:endParaRPr>
          </a:p>
          <a:p>
            <a:pPr lvl="1" marL="980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980640" indent="-528120">
              <a:lnSpc>
                <a:spcPct val="90000"/>
              </a:lnSpc>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 Mesa Laboral de Sindicatos de la Maquila,  Formara parte  de la Coordinadora Regional de Sindicatos de  la Maquila Y Coordinara Acciones  con Organismos Sociales, Intersindicales e Institucionale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III. </a:t>
            </a:r>
            <a:r>
              <a:rPr b="1" lang="en-US" sz="3200" spc="-1" strike="noStrike">
                <a:solidFill>
                  <a:srgbClr val="feec94"/>
                </a:solidFill>
                <a:latin typeface="Times New Roman"/>
              </a:rPr>
              <a:t>	</a:t>
            </a:r>
            <a:r>
              <a:rPr b="1" lang="en-US" sz="3200" spc="-1" strike="noStrike">
                <a:solidFill>
                  <a:srgbClr val="feec94"/>
                </a:solidFill>
                <a:latin typeface="Times New Roman"/>
              </a:rPr>
              <a:t>Dos hechos importantes en el proceso de </a:t>
            </a:r>
            <a:r>
              <a:rPr b="1" lang="en-US" sz="3200" spc="-1" strike="noStrike">
                <a:solidFill>
                  <a:srgbClr val="feec94"/>
                </a:solidFill>
                <a:latin typeface="Times New Roman"/>
              </a:rPr>
              <a:t>	</a:t>
            </a:r>
            <a:r>
              <a:rPr b="1" lang="en-US" sz="3200" spc="-1" strike="noStrike">
                <a:solidFill>
                  <a:srgbClr val="feec94"/>
                </a:solidFill>
                <a:latin typeface="Times New Roman"/>
              </a:rPr>
              <a:t>Conformación de la Mesa Laboral de </a:t>
            </a:r>
            <a:r>
              <a:rPr b="1" lang="en-US" sz="3200" spc="-1" strike="noStrike">
                <a:solidFill>
                  <a:srgbClr val="feec94"/>
                </a:solidFill>
                <a:latin typeface="Times New Roman"/>
              </a:rPr>
              <a:t>	</a:t>
            </a:r>
            <a:r>
              <a:rPr b="1" lang="en-US" sz="3200" spc="-1" strike="noStrike">
                <a:solidFill>
                  <a:srgbClr val="feec94"/>
                </a:solidFill>
                <a:latin typeface="Times New Roman"/>
              </a:rPr>
              <a:t>Sindicatos de la Maquila</a:t>
            </a:r>
            <a:r>
              <a:rPr b="1" lang="en-US" sz="4000" spc="-1" strike="noStrike">
                <a:solidFill>
                  <a:srgbClr val="feec94"/>
                </a:solidFill>
                <a:latin typeface="Times New Roman"/>
              </a:rPr>
              <a:t>.</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Junio del 2,003  acuerdos marcos entre las organizaciones que componen la  MLSM y  FOS/SID para la constitución un comité de dirección y ejecución de un proyecto conjunto y complementario.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	</a:t>
            </a:r>
            <a:r>
              <a:rPr b="1" lang="es-ES" sz="2000" spc="-1" strike="noStrike">
                <a:solidFill>
                  <a:srgbClr val="ffffff"/>
                </a:solidFill>
                <a:latin typeface="Tahoma"/>
              </a:rPr>
              <a:t>Principios que rigen la  cooperación y coordinación:</a:t>
            </a:r>
            <a:endParaRPr b="0" lang="en-US" sz="2000" spc="-1" strike="noStrike">
              <a:solidFill>
                <a:srgbClr val="ffffff"/>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ntener transparencia y de fortalecimiento permanente de la unidad sindical en el sector maquila.</a:t>
            </a:r>
            <a:endParaRPr b="0" lang="en-US" sz="2000" spc="-1" strike="noStrike">
              <a:solidFill>
                <a:srgbClr val="ffffff"/>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arrollan estrategias comunes de acción sindical en el sector maquila.</a:t>
            </a:r>
            <a:endParaRPr b="0" lang="en-US" sz="2000" spc="-1" strike="noStrike">
              <a:solidFill>
                <a:srgbClr val="ffffff"/>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cilitar  amplia participación de los dirigentes de base en la conducción y ejecución del proyec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ec94"/>
                </a:solidFill>
                <a:latin typeface="Times New Roman"/>
              </a:rPr>
              <a:t>IV. Dificultades y avances:</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el proceso unitario:</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arrollar una agenda común de las organizaciones integrantes  de la MLSM. </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aborar un  cronogramas y ejecución de acciones conjuntas.</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yor credibilidad de los trabajadores y la sociedad civil en general.</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iscusión en proceso de las ventajas y desventajas de conformar una sola federación o confederació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articipación del  sindicato PRESITEX y CST-JBE del Comité de dirección del proyec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eec94"/>
                </a:solidFill>
                <a:latin typeface="Times New Roman"/>
              </a:rPr>
              <a:t>IV. Dificultades y avances</a:t>
            </a:r>
            <a:r>
              <a:rPr b="1" lang="es-MX"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el proceso programático/estratégico:</a:t>
            </a: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ormulación participativa de una sola estrategia  organizativa de trabajo de las organizaciones que componen la MLSM, con los objetivos de: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rear una organización sindical fuerte y representativa de los trabajadores de la maquila, con liderazgo y estructuras funcionales, con capacidad de gestión, </a:t>
            </a:r>
            <a:r>
              <a:rPr b="0" lang="es-NI" sz="2000" spc="-1" strike="noStrike">
                <a:solidFill>
                  <a:srgbClr val="ffffff"/>
                </a:solidFill>
                <a:latin typeface="Tahoma"/>
              </a:rPr>
              <a:t>propositiva</a:t>
            </a:r>
            <a:r>
              <a:rPr b="0" lang="es-MX" sz="2000" spc="-1" strike="noStrike">
                <a:solidFill>
                  <a:srgbClr val="ffffff"/>
                </a:solidFill>
                <a:latin typeface="Tahoma"/>
              </a:rPr>
              <a:t> y con habilidad de incidencia y negociación.</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Generar capacidad en el sindicalismo de la maquila para incidir en la sociedad, en el aparato gubernamental y entre  empresarios, para el mejoramiento y el cumplimento de la legislación laboral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eec94"/>
                </a:solidFill>
                <a:latin typeface="Times New Roman"/>
              </a:rPr>
              <a:t>IV. Dificultades y avances:</a:t>
            </a:r>
            <a:endParaRPr b="1" lang="en-US" sz="28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En los aspectos administrativos y operativos.</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ejecutar actividades  en común entre ambos proyectos FOS-3F de manera integral (hacer un plan conjunto y a partir de esto aplicar los recursos disponibles de ambas fuentes de financiamiento)..</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mpartir gastos de operación y administrativos de ambos  proyectos.</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glamentar las acciones del Comité del Proyecto. (Funciones y responsabilidades)   </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tratar a una administradora  para la ejecución de ambos   proyectos  con cuentas contables separadas.</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alta de espacio para el trabajo contable-administrativo</a:t>
            </a:r>
            <a:r>
              <a:rPr b="0" lang="es-ES" sz="2000" spc="-1" strike="noStrike">
                <a:solidFill>
                  <a:srgbClr val="ffffff"/>
                </a:solidFill>
                <a:latin typeface="Times New Roman"/>
              </a:rPr>
              <a:t>.</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eec94"/>
                </a:solidFill>
                <a:latin typeface="Times New Roman"/>
              </a:rPr>
              <a:t>IV. Dificultades y avances:</a:t>
            </a:r>
            <a:endParaRPr b="1" lang="en-US" sz="3200" spc="-1" strike="noStrike">
              <a:solidFill>
                <a:srgbClr val="feec94"/>
              </a:solidFill>
              <a:latin typeface="Times New Roman"/>
            </a:endParaRPr>
          </a:p>
        </p:txBody>
      </p:sp>
      <p:sp>
        <p:nvSpPr>
          <p:cNvPr id="13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oceso organizativo de la MLSM:</a:t>
            </a:r>
            <a:endParaRPr b="0" lang="en-US" sz="1800" spc="-1" strike="noStrike">
              <a:solidFill>
                <a:srgbClr val="ffffff"/>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iscusión en proceso de las ventajas y desventajas de conformar una sola federación o confederación.</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formación de comisiones de trabajo en teas como la Jurídica,  educación, </a:t>
            </a:r>
            <a:r>
              <a:rPr b="0" lang="es-MX" sz="1800" spc="-1" strike="noStrike">
                <a:solidFill>
                  <a:srgbClr val="ffffff"/>
                </a:solidFill>
                <a:latin typeface="Tahoma"/>
              </a:rPr>
              <a:t>Laboral y Seguridad Social</a:t>
            </a:r>
            <a:endParaRPr b="0" lang="en-US" sz="1800" spc="-1" strike="noStrike">
              <a:solidFill>
                <a:srgbClr val="ffffff"/>
              </a:solidFill>
              <a:latin typeface="Times New Roman"/>
            </a:endParaRPr>
          </a:p>
        </p:txBody>
      </p:sp>
      <p:pic>
        <p:nvPicPr>
          <p:cNvPr id="139" name="" descr=""/>
          <p:cNvPicPr/>
          <p:nvPr/>
        </p:nvPicPr>
        <p:blipFill>
          <a:blip r:embed="rId1"/>
          <a:stretch/>
        </p:blipFill>
        <p:spPr>
          <a:xfrm>
            <a:off x="5397480" y="3033720"/>
            <a:ext cx="25401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6:34:38Z</dcterms:created>
  <dc:creator>SID DINAMARCA</dc:creator>
  <dc:description/>
  <dc:language>en-US</dc:language>
  <cp:lastModifiedBy>Lorraine Clewer </cp:lastModifiedBy>
  <dcterms:modified xsi:type="dcterms:W3CDTF">2005-02-19T22:19:24Z</dcterms:modified>
  <cp:revision>6</cp:revision>
  <dc:subject/>
  <dc:title>Experiencia de la Mesa Laboral de La Maquila de Nicaragua,  en cuanto a la coordinación entre organizaciones sindicales y los mecanismos de cooperación </dc:title>
</cp:coreProperties>
</file>