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351F-4CF5-4B5F-B4F7-BAE98EB10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3ED1-AA17-40F0-80FE-07955CEFC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D5B7-6860-4DB8-AAAC-05D169F41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6AEE-67A0-4463-AD02-44EFB18EE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68AF5-3AF0-4198-B1CA-B243634E4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5E26A-6577-4655-8BB7-D77DAD5B5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BD916-3045-455E-B842-4CD939600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C3915-9769-4D81-9304-57D253B9B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23DB5-1159-40E2-9E53-2B123EDEA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5DB55-1C09-43CD-B8E1-67E0277D9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28289-94B9-473E-9C09-8255BC1C3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63AD-4E25-4D19-886D-36C4D3C8E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762F5-F0CB-4B22-BD99-AD0555FB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34331-9967-4A31-B4D1-162D7F97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973F6-893B-47BC-9001-2B1FAD877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4F1AA-235B-4F08-AFEB-D3890788F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3C353-42EA-4171-9EAA-39FC2F250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8D5E-F6DA-4256-BD9C-C73A03384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43A7-CE21-4FA7-9859-C77278637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B3EF-0BA1-4CA5-A281-7DF097100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724C-3547-4189-A0F9-A2C53D637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034A-BDBE-4AEB-AF24-EE06E119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187B-13A0-45DE-AB72-5D01C1017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9035-598E-465A-ADE6-A2DBD89A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C45F4-038A-4EF7-9721-16D857956638}" type="slidenum">
              <a:rPr b="0" lang="es-E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3A8FB-A9BF-476A-8172-4A27E2FAAAD8}" type="slidenum">
              <a:rPr b="0" lang="es-E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Fos-logo-100pix-schaduw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1187280" y="2205000"/>
            <a:ext cx="68407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PROPUESTA PA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UN PROGRAMA REGIONAL C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LAS ORGANIZACIONES SINDI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DEL SECTOR DE LA MAQUILA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AMERICA 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Fos-logo-100pix-schaduw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1187280" y="2205000"/>
            <a:ext cx="684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468360" y="2133720"/>
          <a:ext cx="8110440" cy="3127320"/>
        </p:xfrm>
        <a:graphic>
          <a:graphicData uri="http://schemas.openxmlformats.org/drawingml/2006/table">
            <a:tbl>
              <a:tblPr/>
              <a:tblGrid>
                <a:gridCol w="1198440"/>
                <a:gridCol w="4370400"/>
                <a:gridCol w="507960"/>
                <a:gridCol w="559080"/>
                <a:gridCol w="507960"/>
                <a:gridCol w="9666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O-N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CCIO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CURS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2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unicación e intercamb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.1 Intercambio de experienci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1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.2 Recursos para facilitación y comunicación electrón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3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apacita-ció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2080" indent="-262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.1 Formación de 50 líderes sindicales y promotores sobre temas laborales regionales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OS – 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.2 Divulgación (conferencias de prensa / anuncio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OS – 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3" name=""/>
          <p:cNvSpPr/>
          <p:nvPr/>
        </p:nvSpPr>
        <p:spPr>
          <a:xfrm>
            <a:off x="1763640" y="404640"/>
            <a:ext cx="6696000" cy="12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Propuesta programa regional maqui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A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Fos-logo-100pix-schaduw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1187280" y="2205000"/>
            <a:ext cx="684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468360" y="1916280"/>
          <a:ext cx="8110440" cy="4473360"/>
        </p:xfrm>
        <a:graphic>
          <a:graphicData uri="http://schemas.openxmlformats.org/drawingml/2006/table">
            <a:tbl>
              <a:tblPr/>
              <a:tblGrid>
                <a:gridCol w="1198440"/>
                <a:gridCol w="4370400"/>
                <a:gridCol w="507960"/>
                <a:gridCol w="559080"/>
                <a:gridCol w="507960"/>
                <a:gridCol w="9666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O-N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CCIO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CURS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80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4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Gene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2080" indent="-262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.1 Elaboración cuestionarios sobre el estado de la cuestión de gene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OS – 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2080" indent="-262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.2 Realización 4 Encuentros Regionales de capacitación / sensibiliz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X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OS – 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.3 Realización de Asesorías Nacion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OS – 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.4 Realización Foro Regional Sindicalismo y Gener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OS – 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5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lianzas e incidenc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.1 Visita delegación América Central a Europ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OS – 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3600" indent="-363600">
                        <a:lnSpc>
                          <a:spcPct val="100000"/>
                        </a:lnSpc>
                        <a:tabLst>
                          <a:tab algn="l" pos="0"/>
                          <a:tab algn="l" pos="363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.2 Visita Delegación Europa a América Cent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S – 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3 Contacto con redes sindicales europe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7" name=""/>
          <p:cNvSpPr/>
          <p:nvPr/>
        </p:nvSpPr>
        <p:spPr>
          <a:xfrm>
            <a:off x="1835280" y="404640"/>
            <a:ext cx="6696000" cy="12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Propuesta programa regional maqui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A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Fos-logo-100pix-schaduw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1187280" y="2205000"/>
            <a:ext cx="684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835280" y="404640"/>
            <a:ext cx="6696000" cy="12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Propuesta programa regional maqui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COBERTURA AC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84360" y="2276640"/>
            <a:ext cx="7559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FOS: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Honduras, Nicaragua y El Salv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Mesa Sindical de Trabajadores de la Maquila El Salv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Mesa Laboral de Sindicatos de la Maquila Nicara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FITH y FESITRADEH Hondu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3F: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Honduras, Nicarag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Mesa Laboral de Sindicatos de la Maquila Nicarag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FITH y FESITRADEH Hondu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Fos-logo-100pix-schaduw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1187280" y="2205000"/>
            <a:ext cx="684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835280" y="404640"/>
            <a:ext cx="64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PREGUNTAS PARA EL DEB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95280" y="1916280"/>
            <a:ext cx="8280360" cy="41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¿Cuáles son las expectativas de las organizaciones ante un programa regional en la maquil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¿Qué opina de los componentes de la propuest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1. Estrategia / agenda comú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2. Comunicación e intercamb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3. Capacit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4. Gener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5. Alianzas e incide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¿Cuáles posibilidades existen para ampliar el programa hacia otros países y organizacion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Definición de acciones y programación del programa reg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Fos-logo-100pix-schaduw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1187280" y="2205000"/>
            <a:ext cx="684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908000" y="333360"/>
            <a:ext cx="669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Iniciativas de coordinación entre organizaciones donantes en el ámbito labo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971640" y="2276640"/>
            <a:ext cx="7488000" cy="51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Reuniones de agencias donantes trabajando en el sector laboral (San Salvador y San Pedro Sul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(3F, FOS, LO-Noruega, Consejo Danés, e.o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Esfuerzo de integración de los programas de FOS y 3F en el sector sindic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Mesa Sindical Laboral Maquila – Nicaragu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FITH y FESITRADEH - Hondura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COSIBAH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Programa Regional Maqui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Fos-logo-100pix-schaduw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187280" y="2205000"/>
            <a:ext cx="684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908000" y="333360"/>
            <a:ext cx="669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Iniciativas de coordinación entre organizaciones donantes en el ámbito labo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71640" y="1989000"/>
            <a:ext cx="7488000" cy="56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RAZON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Complementariedad geográfica y temática de los progra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Evitar duplificación y dispersión de actividades, eventos e iniciativ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Optimizar el uso de los recursos financieros y humanos disponibles (contrarrestando impacto de las políticas de la cooperación Europe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Orientar la cooperación hacia procesos organizativos con visión a mediano-largo plazo (superando el nivel de ‘proyectos’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Minimizar ‘la burocraci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Fos-logo-100pix-schaduw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187280" y="2205000"/>
            <a:ext cx="684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908000" y="333360"/>
            <a:ext cx="669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Iniciativas regionales en el sector de la maqu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55640" y="2060640"/>
            <a:ext cx="756144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FOS: Proyecto ‘Promoción de la Equidad de Genero en las Organizaciones Sindicales del Sector Maquila de Nicaragua, Honduras y El Salvador’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FOS: Proyecto ‘Fortalecimiento de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Organizaciones Sindicales en la Maquila de América Central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3F: Programa 2005-2006: acciones region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¿Otras iniciativa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Fos-logo-100pix-schaduw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187280" y="2205000"/>
            <a:ext cx="684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908000" y="333360"/>
            <a:ext cx="669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Hacia un programa regional en el sector de la maqu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55640" y="2060640"/>
            <a:ext cx="7777080" cy="35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JUSTIFICAC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Aprovechar las ventajas de una mayor coordinación e integración de los programas (burocracia, recursos, complementarieda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Crear espacios de intercambio y análisis regional que contribuya al trabajo sindical nac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Establecer mecanismos de coordinación e información ante tendencias regionales y el accionar de las empresas de la maquila (mape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Crear la base para definir una agenda común ante empresas e instancias a nivel regional e internac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Fos-logo-100pix-schaduw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468360" y="2205000"/>
            <a:ext cx="7991280" cy="37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Intención del programa es </a:t>
            </a:r>
            <a:r>
              <a:rPr b="1" lang="es-ES" sz="1600" spc="-1" strike="noStrike" u="sng">
                <a:solidFill>
                  <a:srgbClr val="000000"/>
                </a:solidFill>
                <a:uFillTx/>
                <a:latin typeface="Verdana"/>
              </a:rPr>
              <a:t>crear las condiciones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 para que las organizaciones sindicales fortalezcan su accionar a nivel nacional y regional, y no la creación de estructu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La propuesta para un programa regional de la maquila pretende crear un espacio regional amplio y abierto, que permite a las organizaciones sindicales encontrarse, intercambiar experiencias, consensuar posiciones y programar acciones conjun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Lo que se presenta es una </a:t>
            </a:r>
            <a:r>
              <a:rPr b="1" lang="es-ES" sz="1600" spc="-1" strike="noStrike" u="sng">
                <a:solidFill>
                  <a:srgbClr val="000000"/>
                </a:solidFill>
                <a:uFillTx/>
                <a:latin typeface="Verdana"/>
              </a:rPr>
              <a:t>propuesta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 desde 3F y FOS, que está sujeto a discusión por las organizaciones participa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Objetivo del debate es definir: Ejes de trabajo, Temas, Acciones y Tiemp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50920" y="40464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Puntos de part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Fos-logo-100pix-schaduw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539640" y="2205000"/>
            <a:ext cx="799308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Objetivo de desarroll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Articular los esfuerzos de las organizaciones sindicales en América Central orientado al mejoramiento de las condiciones laborales de los/as trabajadores/as de la maquila en América Cen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Objetivo inmediat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rear mecanismos de comunicación, coordinación e intercambio entre las organizaciones sindicales en la maquila, lo que permite fortalecer su accionar a nivel nacional, regional e internacional.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692360" y="404640"/>
            <a:ext cx="6767280" cy="12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Propuesta programa regional maqui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Fos-logo-100pix-schaduw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539640" y="2205000"/>
            <a:ext cx="7993080" cy="48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COMPON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Definido una agenda común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entre las organizaciones sindicales de la maquila que funciona como la base para el trabajo regional y la definición de una estrategia común a mediano plaz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Mejorado la comunicación e intercambio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entre las organizaciones sindicales, a través de la utilización de las vías de comunicación electrónica y la realización de encuentros regio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Aumentado los conocimientos de la dirigencia sindical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sobre tendencias regionales y su impacto para los/as trabajadores/as, mediante encuentros de capacitación, intercambio y análisi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Fortalecida la defensa de los derechos laborales desde una perspectiva de 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equidad de gener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Creado las condiciones para la 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unificación de las posiciones y creación de alianzas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entre organizaciones sindicales y otros actores que posibilita una incidencia a nivel nacional, regional e internacional.</a:t>
            </a: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2360" y="404640"/>
            <a:ext cx="6767280" cy="12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Propuesta programa regional maqui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COMPON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Fos-logo-100pix-schaduw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1187280" y="2205000"/>
            <a:ext cx="684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763640" y="404640"/>
            <a:ext cx="6696000" cy="12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Propuesta programa regional maqui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A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468360" y="1989000"/>
          <a:ext cx="8182080" cy="4340520"/>
        </p:xfrm>
        <a:graphic>
          <a:graphicData uri="http://schemas.openxmlformats.org/drawingml/2006/table">
            <a:tbl>
              <a:tblPr/>
              <a:tblGrid>
                <a:gridCol w="1150920"/>
                <a:gridCol w="4467240"/>
                <a:gridCol w="512640"/>
                <a:gridCol w="563760"/>
                <a:gridCol w="512640"/>
                <a:gridCol w="97488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O-N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CCIO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CURS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1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3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genda comú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.1 Estudio sistematización de experiencias educativ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OS – 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.2 Foro regional sobre estrategias educativas en la maquil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OS – 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.3 Elaboración 3 estudios de caso sobre organización sindical en la maqui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OS – 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.4 Publicación estudio sobre organización sindical en la maqui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OS – 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2080" indent="-262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.5 Definición de una estrategia común entre organizaciones sindicales en la maqui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2080" indent="-262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OS – 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2080" indent="-262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.6 Foro regional presentación estrategia sindical regional en la maqui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OS – 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.7 Divulgación y public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OS – 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5T01:04:22Z</dcterms:created>
  <dc:creator>POSTLABK06</dc:creator>
  <dc:description/>
  <dc:language>en-US</dc:language>
  <cp:lastModifiedBy>Lorraine Clewer </cp:lastModifiedBy>
  <dcterms:modified xsi:type="dcterms:W3CDTF">2005-02-19T22:18:43Z</dcterms:modified>
  <cp:revision>237</cp:revision>
  <dc:subject/>
  <dc:title>Inteligencia Emocional: hacia una ciencia de los afectos</dc:title>
</cp:coreProperties>
</file>